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03E-5C31-4668-9A76-5308030F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072-AA43-4535-A937-2F00FB6C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608-E1DE-442F-B98D-BA23C9CD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964-BE32-4FCD-BD5A-AB041F85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00F-94E7-4F4D-BFFC-984E04BD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58B-1854-4355-9D11-94404BE0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02C-33B2-4A9B-A112-E6E127D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9DA-84AB-4E36-9968-57041CF9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BD4-AE0D-4D06-AE56-25DD9CCA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7FA-BAE6-497D-81BD-EF0596AF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072-8BB4-4DFF-B32E-0720D61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773-0DFD-417D-A61F-A0E254F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13E-20EF-4E1D-8EEF-27E2F3526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Writing%20Algebraic%20Expressions%20PP1.notebook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Writing%20Algebraic%20Expressions%20PP2.notebook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valuate%20if%20x%20is%2010.notebook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9128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343400"/>
            <a:ext cx="81536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9900"/>
                </a:solidFill>
                <a:latin typeface="Comic Sans MS"/>
              </a:rPr>
              <a:t>ALGEBRA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7120" y="10666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lgebraic Express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se Wor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 more than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umber decrease b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less than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umber increased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m of a number &amp;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more than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236232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30481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-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-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680" y="43434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680" y="49528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55627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840" y="1413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lgebraic Express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se Wor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umber plu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umber decrease by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 less than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umber increased by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m of a number &amp;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more than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2760" y="213372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819520"/>
            <a:ext cx="161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9800" y="350532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-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9080" y="4114800"/>
            <a:ext cx="12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9080" y="4800600"/>
            <a:ext cx="12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554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880" y="1260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each algebraic expression when x =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+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+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-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-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 -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is Table by Sub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73360" y="2660760"/>
          <a:ext cx="4091040" cy="3801960"/>
        </p:xfrm>
        <a:graphic>
          <a:graphicData uri="http://schemas.openxmlformats.org/drawingml/2006/table">
            <a:tbl>
              <a:tblPr/>
              <a:tblGrid>
                <a:gridCol w="2046240"/>
                <a:gridCol w="204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48748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7480" y="4191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480" y="4952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3868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34720" y="1676520"/>
            <a:ext cx="70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f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5 would be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– 5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is Table Using Substitu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673360" y="2660760"/>
          <a:ext cx="4091040" cy="3801960"/>
        </p:xfrm>
        <a:graphic>
          <a:graphicData uri="http://schemas.openxmlformats.org/drawingml/2006/table">
            <a:tbl>
              <a:tblPr/>
              <a:tblGrid>
                <a:gridCol w="2046240"/>
                <a:gridCol w="204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41080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80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0" y="4876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63868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Write an Algebraic Expression for These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’s brother is 2 years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younger th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wo numbers is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dif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etween two numbers is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4280" y="3048120"/>
            <a:ext cx="11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s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3360" y="4648320"/>
            <a:ext cx="24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x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 y =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8640" y="6095880"/>
            <a:ext cx="233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m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 n =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A variable is a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letter or symb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at represents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ariable can use any letter of the alphab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3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effic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number or symbol multiplied with a variable or an unknown quantity in an algebraic term, as 4 in the term 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lls us how MANY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efficient.  It tells us there are 3 x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gebraic expres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a group of numbers, symbols, and variables that express an operation or a series of oper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 +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r –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 =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+ 8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 =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– 6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ify – Combine like terms and complete all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e if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 =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3 +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2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+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 + 3 = 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s That Mean 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733560" cy="26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6600" y="384120"/>
            <a:ext cx="79279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s That Mean Sub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320040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admin</cp:lastModifiedBy>
  <dcterms:modified xsi:type="dcterms:W3CDTF">2008-03-09T12:39:29Z</dcterms:modified>
  <cp:revision>10</cp:revision>
  <dc:subject/>
  <dc:title>Algebra I</dc:title>
</cp:coreProperties>
</file>